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D21-0B8A-41B7-8E3B-AE35E9D9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964-150F-4496-B7E4-AB857339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5C5-DFC1-48EA-8F9F-AF451B71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36B-76BD-421C-BCB2-139CF37A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048C-7B3C-4149-B924-1626D201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3CB6-00B0-4839-B39C-CCB3E0E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1ED7-7A1C-4CC3-80DF-2F017C01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F4CF-B335-474A-A53F-22E15069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29CB-ED4F-4088-A60C-4BF83AC9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03AD-D75D-4124-B82D-589FC8C3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F0E0-E416-43C5-824A-D3EDE49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EDD-BCBB-402C-9D49-8B0220FE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39C-9AB1-403C-A3BF-F2967974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A07C-51FA-4F47-85A8-988042D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9FD2-A44D-4F37-8C20-8E6658C3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459B-2C89-4AAF-961E-C3A6048A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E34F-24D6-44D7-BD3B-AC0889F8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74B-7BC4-4FB9-A497-102DA831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025-0B42-4504-BEF7-21ED246B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000-CC1B-4075-ADF2-FF576EE4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9E7-C7FB-40C9-99A4-B6653AB0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182-154F-45E2-A250-5B4F22FB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EEF-F479-4F43-8225-CF77611A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9ED-6AA3-4A84-8394-F793587A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7512-28B8-43B4-8E90-240FBFE56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72EB-47F6-4E4E-82B7-0FCF3213D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e Two Heads Better Than One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periment Conduc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el Vess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t of 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Chart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eople work better in groups 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msel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vary between boys and gir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boys and girls better at verbal or ma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working in groups will improve the sc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the scores will improve for both boys and gir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elieve boys will be better at verbal and girls at m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gi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individual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group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aster sheet (group t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ng sheets for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ing P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ll test su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boys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boys as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girls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girls as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individual Range:             0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’ average individually:     3.4/12      28 1/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score as a group:            8/12       66 2/3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individual range:               0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’ average individually:      2.1/12      17.5%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’ score as a group:            3/12        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irst hypothesis was correct.  Both the boys and the girls improved as a gro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ys, however, improved much more drastically than the gir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econd hypothesis was in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ys were better at verbal and the girls at ma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28:25Z</dcterms:created>
  <dc:creator>USD376</dc:creator>
  <dc:description/>
  <dc:language>en-US</dc:language>
  <cp:lastModifiedBy>Tom Vessey</cp:lastModifiedBy>
  <dcterms:modified xsi:type="dcterms:W3CDTF">2011-03-02T03:06:47Z</dcterms:modified>
  <cp:revision>6</cp:revision>
  <dc:subject/>
  <dc:title>Slide 1</dc:title>
</cp:coreProperties>
</file>